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9322-F358-48AF-BD75-54ABAD729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D5B2-D473-4EBC-82C5-B158467E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B864-F708-4B8D-9FF9-91C6C990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E8AA-4DA7-47F9-AC27-0280CF410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D4D8-7F4F-41B9-B6AC-6ACBBB5F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E658-7432-40BE-8F80-BC1886D0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F054-7DF2-48A7-B114-65568D2C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7528-F212-4E7C-8F99-80919EB7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F4B8-A376-4FBA-BDC7-13EF159D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5D95-77F6-4A60-B0F9-0518DDD1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3F89-27A7-45D9-BDB9-24A92F33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EA11-BCA4-4DE3-9CAA-B7EE17F4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ECF5-28E3-4359-8524-5D2EDF1D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C877-7D7B-4E7E-BD1A-BA951755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D25B-4768-41FB-8344-E359D360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371E-89BE-4A3D-B931-AB525B44C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156A-96A4-4C9B-B729-EF345084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488F8-C1D9-4EDA-AE95-55E7688E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0E813-547F-412C-A553-55C7EAE8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61374-2658-4183-A00E-BC3A8D30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0C275-B076-4DB4-9325-B97EE9EC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AF96C-97BA-4812-A954-ECF8F451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9135-E720-4FE9-82E2-55975AB4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418F0-1E0C-4D7D-A697-166B532D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E0016-164A-47C8-94FE-8E432C96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29B8F-3BBA-4E34-A8F4-B78B66DA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363A9-8538-4449-9FB4-6B0D4747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E0302-681B-49B7-AB97-F9FA9DE2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CA598-B1BE-4FD0-B5C7-DCEBFFE17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056F9-37F4-4437-8E47-5B5932DD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EAF0-39FB-44EB-A3CD-F8AD74AA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92DC-2459-4F62-A538-145FA48F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5BC5-E12B-4D0B-8E9B-522B96F5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20A6-2FD2-43F0-A22C-15748A88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EE86-91A0-494F-8978-EF184EA7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64B0-B2C5-4883-B8C8-0B6F1252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E3F7-A8D4-43F6-9031-9C3BD5F12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EEE6-9A3C-4F4E-8B33-BED00523A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AE8B-034A-4E3B-BEC5-02473B50D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 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de in one by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de in and d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de in and d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ded w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150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18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ded w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150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89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ded z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ded z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ush on under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60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ush on under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60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solv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 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solv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sh bul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50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2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sh bul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50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indefinite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8" dur="indefinite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indefinite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8" dur="indefinite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b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10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10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b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6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5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c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10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c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10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160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160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10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10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10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10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g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10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g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10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e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10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98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98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e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10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98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98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in re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10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5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in re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10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10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64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f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85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15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f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136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15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20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768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2" dur="768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4" dur="768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6" dur="768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20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768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2" dur="768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4" dur="768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6" dur="768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u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20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7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 and d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u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20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7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5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5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ipse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340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38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dur="2000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40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ipse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340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46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10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10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10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10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340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95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898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220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0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898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nwh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136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 and d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nwh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101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 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20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 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20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merang and ex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10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5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200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dur="5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0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merang and ex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10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5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200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dur="5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 and ex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44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7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58" dur="50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50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dur="50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 and ex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44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5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6" dur="50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dur="50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dur="50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 and ex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dur="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dur="50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dur="50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 and ex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dur="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50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dur="50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de in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de in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de in one by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2-05-21T17:23:4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3</vt:r8>
  </property>
</Properties>
</file>