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A95-3EBC-4894-894E-3799BBB9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2CE-267D-4820-8C57-5F4658B7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89B-DEDA-4D3E-B94E-1FE6405B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C7E-BC0D-4921-924F-5C70EF3C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9D4-DD0C-4E96-B67D-A85A867E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1CD-9D96-4BD6-9DB1-D18ECC13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B2E-7898-4583-91A2-DFF2A54C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037-892E-42D0-BDE4-FBB4DF9D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E35-D723-4E8D-815B-52DEFB95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DD5-CBC0-4E56-8615-C111C642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632-DA9D-4620-91C3-73B48700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AE5-FB30-4D50-8217-C321239B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B94A-49A6-4E91-AA4A-A72EAC4C1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.office.microsoft.com/r/rlidDRMMoreInfoLicenseReq?clid=1033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2210040"/>
          </a:xfrm>
          <a:prstGeom prst="rect">
            <a:avLst/>
          </a:prstGeom>
          <a:solidFill>
            <a:srgbClr val="faf8ed"/>
          </a:solidFill>
          <a:ln w="3240">
            <a:solidFill>
              <a:srgbClr val="c0c0c0"/>
            </a:solidFill>
            <a:miter/>
          </a:ln>
        </p:spPr>
        <p:txBody>
          <a:bodyPr lIns="54864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ssion for this presentation is currently restricted. This presentation can only be opened by using Microsoft Office 2003 or later. You can request the author of the presentation to send a copy that can be read using the Rights Management Add-on for Internet Explorer. To follow the link below, click Slide Show on the View men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oNotEnter" descr=""/>
          <p:cNvPicPr/>
          <p:nvPr/>
        </p:nvPicPr>
        <p:blipFill>
          <a:blip r:embed="rId1"/>
          <a:stretch/>
        </p:blipFill>
        <p:spPr>
          <a:xfrm>
            <a:off x="314280" y="31428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75248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Learn more about documents with restricted per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8:12:01Z</dcterms:created>
  <dc:creator/>
  <dc:description/>
  <dc:language>en-US</dc:language>
  <cp:lastModifiedBy/>
  <dcterms:modified xsi:type="dcterms:W3CDTF">2003-03-12T04:50:10Z</dcterms:modified>
  <cp:revision>80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